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applause.wav" ContentType="audio/x-wav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C15-218D-40F6-9D2C-4E0CC57B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345-2799-44FC-9266-BA1F4969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8D8-7FD9-4F5C-A720-CF3E3363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DA7-CCAA-4EDF-8B89-9BBCBF31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C15D1-7067-4C30-9CD0-E23E1359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AB0F5-2664-418B-AEEF-B3431F34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B3044-1B6A-4D98-9CC0-964B4E2F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F894F-7979-4818-B539-DF2CCA91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4628C-4120-433D-9029-B842402A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8B645-3DB7-4D34-A9A1-273C9F08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21D5C-C628-4633-8D59-0BA5928C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B5E-22A5-4554-95AD-D81D3BF7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042A8-C76F-41CC-B513-9AE7AA08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64747-69F9-410C-BD1F-37F2E2BB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958FA-26EB-4286-99D9-4246D02E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27881-10CB-476E-ABB6-DEF0CF7C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47F80-71A2-4EA1-8FBF-8CE76576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8841D-72B4-4B49-BB9D-F89BC2F9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D75E-65B8-4339-82A8-BD8A1A11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90EEB-0CCE-4971-9A7E-8F3A4791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74FB-1FE8-4EA2-99DF-267538EC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19E98-F35D-49D5-8A7D-8FAA640D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ECC-67B5-4B1F-BBE4-24805ABF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ADE7C-0FA6-45F6-A7E3-E4EA0037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5C7E9-BAA3-46D0-8226-ED4C14AC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D2290-53E8-43B5-ABDA-B5251CB3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A4D82-D61F-4AFB-B91B-5F60FF00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542B1-CF2A-48EF-BD23-121D1D40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BB50E-A84E-405F-808D-B1E0D8F4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0BD70-008A-4149-A2A6-81358367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E2FF9-9628-4522-9CC8-7AF82DC6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06CAD-B7DC-42B8-9DA0-57E78477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98953-0E93-41F6-9806-EDC143FC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F62-F191-4BB3-9B1B-4CE8577A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1E636-0130-484E-A10F-D7940F5D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F7B2E-5351-479E-90C4-AB8EC6B0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2821E-02DD-4FBC-8CF1-A560EE94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E457E-6EF1-4FEC-975A-4BF44BF7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6D349-20BB-4C3C-9F4B-F2C1E48A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B4BC9-EE01-4539-BAF7-6EAC8A6B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FD014-F3D3-4271-A913-6399243E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F2E4E-2034-4C63-B729-9C9A7EFC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8A6C-BC58-4AB9-9F4E-D4F0F226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7115-0878-4772-8C13-EA6349A1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1C0-0927-48AB-BAC8-AB415CAD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949-5EC7-497D-B1B5-56084F26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580-1E1B-467B-AE89-A94ED66C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FA7-9EF4-429F-A6C7-281D058A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C6BE-0ED4-46DC-A82B-00CB368308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05C8-9AE2-4428-BD23-CD57DB60FE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F770-823A-481F-9913-CA1FDD606DA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9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1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19CD-5AF1-4AA1-84FF-695F406837A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enry’s freedom box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5238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told by: Riley Jans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zoom dir="in"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00208 -0.00439 C 0.00486 -0.0178 0.01198 -0.03237 0.01893 -0.05111 C 0.03785 -0.1043 0.04289 -0.15633 0.029 -0.16443 C 0.01493 -0.17368 -0.01215 -0.13644 -0.03107 -0.08302 C -0.04114 -0.05504 -0.04705 -0.02844 -0.04913 -0.00832 C -0.05208 0.00764 -0.05312 0.02359 -0.05312 0.04233 C -0.05312 0.10222 -0.0401 0.15172 -0.025 0.15172 C -0.01007 0.15172 0.00295 0.10222 0.00295 0.04233 C 0.00295 0.01434 -3.33332999999988E-006 -0.01248 -0.00503 -0.03099 C -0.00711 -0.04717 -0.01215 -0.06429 -0.01805 -0.08163 C -0.03802 -0.13644 -0.0651 -0.17368 -0.07916 -0.16443 C -0.09305 -0.15494 -0.08802 -0.1043 -0.06805 -0.04972 C -0.06007 -0.02428 -0.04913 -0.003 -0.03802 0.01157 C -0.03003 0.02498 -0.021 0.03701 -0.00902 0.04903 C 0.02691 0.08765 0.06285 0.105 0.07292 0.08904 C 0.08195 0.07285 0.06198 0.02891 0.02587 -0.00832 C 0.01094 -0.02428 -0.00503 -0.0363 -0.01805 -0.0444 C -0.03003 -0.05249 -0.04514 -0.05897 -0.06111 -0.06313 C -0.10503 -0.07631 -0.14305 -0.07238 -0.146 -0.05111 C -0.15 -0.03099 -0.11701 -0.00439 -0.07309 0.00902 C -0.05312 0.01434 -0.03402 0.01689 -0.01909 0.0155 C -0.00607 0.0155 0.00799 0.01296 0.02292 0.00902 C 0.06684 -0.00439 0.1 -0.03237 0.09584 -0.05249 C 0.09289 -0.07238 0.05486 -0.0777 0.01094 -0.06429 C -0.01007 -0.05781 -0.02916 -0.04833 -0.04201 -0.03769 C -0.05312 -0.02983 -0.06406 -0.02035 -0.07604 -0.00832 C -0.11111 0.0303 -0.13211 0.07285 -0.12205 0.08904 C -0.11302 0.105 -0.07604 0.08765 -0.04114 0.05019 C -0.02413 0.03169 -0.01007 0.01296 -0.00208 -0.00439 Z">
                                      <p:cBhvr>
                                        <p:cTn id="6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228600" y="914400"/>
            <a:ext cx="8686800" cy="9067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379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bout the 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as a bo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was a slave so he was not allowed to know there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and his siblings worked in the big house where his boss l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morning Henry's master call and tolled him he was going to work for his 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 that day he left to work for his son in a tobacco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as a man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got married and had three k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morning one of Henry’s friend told your family was s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an out side and saw slaves going a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not sing ever ag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7964640" y="5989680"/>
            <a:ext cx="117936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-0.00324 L -1.17709 -0.01433 E">
                                      <p:cBhvr>
                                        <p:cTn id="12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fter Henry’s family lef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was sad because his family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nted to go to a place where there are no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one day he put he self in a crate and was shipped to the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16:46Z</dcterms:created>
  <dc:creator>test</dc:creator>
  <dc:description/>
  <dc:language>en-US</dc:language>
  <cp:lastModifiedBy>test</cp:lastModifiedBy>
  <dcterms:modified xsi:type="dcterms:W3CDTF">2011-03-30T18:07:52Z</dcterms:modified>
  <cp:revision>10</cp:revision>
  <dc:subject/>
  <dc:title>Slide 1</dc:title>
</cp:coreProperties>
</file>